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8CB4-D7EF-4B45-8679-F4976743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AB58-3270-4159-8895-5EC39B5B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49728-63A5-47A8-ACD8-8F8FE73C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3B9F5-84CC-4004-BA0F-C4A0C0B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E1E6B-5000-43A6-889C-40861926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5F5CD-01A0-4909-87C1-FE672DE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22E4-2ADF-4918-85BE-B99708C4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A7AE5-DD9D-4A94-8B0E-F78060F8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543A-E31D-4955-AB5C-5FC425C2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C36D-8A12-4A00-884A-8583AD9A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EAE1-9DF3-4279-A4C9-648E6929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770AF-144C-4ACA-93C1-E5ACC3AE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D4C6-61B8-463E-8455-95E9953C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15CB-4828-4B49-AF0A-5BE00D7C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B8C47-5C4D-4C13-A4E0-4EF7C456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D8BDF-9D8C-4B71-BB7F-C427365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C4DB-85DF-49C4-8203-A3048FE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7711E-A2C0-47BD-BC49-9A355D13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3552-C4F8-4C6C-AB29-EB3EC34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1C83-ABF9-451B-A1E4-3BB0F93B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0803-34BF-4672-A3E2-300EFDEC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94FC5-4EC6-4B4F-A7C6-0FB88DDF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92B5D-F1D4-4715-8278-C1ED7EC1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91BC8-1AB4-4569-A376-7C2DEA35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7B9E3-7D90-443B-B02A-376E4EBD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8471F-2B53-4A1A-8261-0FB08CE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692E9-0DE5-4CA5-A1E1-871C129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AD9B1-EDD2-4C1E-9CB0-9F3E2EA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45D34-1076-49C9-A0C0-DABD56B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EA01F-CA63-40F4-848F-560E087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C8061-0E82-4199-A712-7B1CEB26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C4C0-D336-4157-95CE-BBCDDB47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6FEFE-ACA7-4E50-9BC3-2105548F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68D6B-E172-41B2-850D-7488184C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E5600-9B29-4C56-8023-9522BFC5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3A324-AE99-4085-B619-F86F3DC6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15E20-86FB-4D78-BCD5-98C7A5D3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44335-7E9E-4E22-97B4-11E59ED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E665A-53FC-4A8B-9A09-D54826E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A9837-80BA-4A9C-8921-261C0F0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59274-A5E9-4564-87E5-4E271DD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C4667-EAD0-41AA-8BB4-F515585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15E43-3FC0-43C0-9BAF-F976596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8F5C0-E959-4739-BDC9-E209FF4E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4E789-6466-43BC-BFBC-568E24C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86F-8C7E-49C6-9C44-0994D5B1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3EC-AF2D-459B-A92F-8E05CAD8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58F-2EE2-416D-97D6-811DABAF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F12-8EEF-4CBB-B472-DFE30AA1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8A1-5878-4ED6-BF79-FEEB2AD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98E-9853-4E3B-947B-906A595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495-1E16-46B3-9807-2E45C7F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E86-CFCA-49A7-98B1-31FC7A9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436-4ECE-4326-8759-7A13E6F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7EA-A7D9-4285-9719-64B4DBD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75D-BCCA-427E-A9B7-318A4546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3BB-079E-465D-989A-EBC0FEC2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C803-DB46-4146-ABE3-87A74209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B30D-F556-4D62-B066-BA003B6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CF31-F182-42D4-BD61-5A9CC92E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1541-5902-49B0-8805-6FBFF02F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6AD-FEDD-4626-BB80-AA7CA9D4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B88B-33B9-49AE-BDF8-90AEC498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27C9-6F0B-410E-B7C0-5BC81C99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4ED-AE4A-4C16-AD5E-E390BBF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7836-ACCE-4BE3-848D-95843DE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853-4490-43FE-83CD-53E6BCFC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A2AF-B9CF-4B0D-873A-AF48E774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11A2-B038-4CAC-A2CB-BAB5479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949B-025D-4A06-8EAC-67931A06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519B-A079-439F-A3EF-EDBA8B2A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F9B7-A43E-4EC2-B12B-04AB9FB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2BCE-AAA2-4E5E-9494-DD5BDB5C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6F1F-7616-4136-89FA-2B339822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D3C2-D05D-478D-BC40-CD298F5E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D9DA-E7CD-4504-A256-72FCA17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0182-3372-4DE1-BD18-9DB48E0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5D6A-B68A-49AE-9FA2-2623982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7064-3BC5-487B-9E2C-54A1B439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A1F3-34E3-4AE8-A3E0-10573720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963A-8E37-4922-846F-ADEADA12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757C-0216-4FA4-B881-76436AE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5BBD-F47A-4377-AF09-2C2B753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1CAC-7722-4B53-B448-EA87CB5B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C82F-FDB4-4ECB-ABBF-2C14B92E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AEF4-C4AF-4581-BD45-9E90EA0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8FA0-5862-4EA3-9635-C4E49DF2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1D5F-F666-4914-81BE-FA31D11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FCCC-418B-47CF-A69F-5E9C62D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D8F2-1045-45AC-8D16-E6CD540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3E7E-7C97-4F61-8A8B-A965E18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3688-6C9E-4449-8408-34B3AD76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BA71-C312-4BDA-8103-C55F75DE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6CE2-6F2E-4471-8FA7-9650AC7F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66DC-B88E-4150-971F-79AE443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9DD9-2E32-4BE5-941A-B0FA2D1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4707-E1E2-4B7B-9983-090D2AFE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9057-B2DE-4AF2-9D6C-76B485B9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BD2EC-17B6-49B6-B94B-C57523F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F753-9050-4B22-B064-F117A07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EDE3-98C5-45B0-A8D2-5377A0F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B0C5-4C6A-4A66-A196-DD21FC29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D3B9-E8C3-40A3-B36F-5DB5049B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FB9F-5B8D-450C-A69E-20764C4B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A8FA-320D-4636-97B4-BF3E060C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CF61-402F-4147-8DF5-06E4A5B3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67C4C-0B61-4273-8ACD-B5E3275E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2B95B-C13E-41FB-ACE0-25D2DB0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4C3D9-51F1-429D-B7A8-BBF5B6DF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ECE3E-7A8D-4E47-9311-6C13707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3EDB7-B092-4B4C-9850-E30EEF92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66D5-43E0-4D4F-9544-257C9B9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296E3-9B58-4D5C-AFD0-6F69C84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D3588-032F-40D0-B589-434D3B85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7610-98CE-4745-9BE0-F56FDAF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2C1C-58BE-4B60-AF83-789A15F6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E888-6B00-443B-A1A1-C5567F5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CA66-3057-4D16-AC59-8ED7A375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0374-4820-4EBF-8E3F-E5AC8DFC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724E-D453-4185-8D8A-74D8406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1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EB41-56D6-4EA0-BB0B-05F6944496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4476-B594-4142-98C2-B2CC7B917E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3003-0322-4849-BCAC-9B216FB74F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39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Box 3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567B-7A86-435E-A5E7-1B77FA339F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B03F-B9AE-47AA-AA44-EB8D0D5321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8D51-B693-4763-97DB-71DB313DD73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13D6-7DF1-4877-92CC-11E72060B2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8EE-60DC-4FE0-ACFC-F936829BBD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AE0-5BB1-4463-9BE9-6B109B9DF5D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52C-1501-40D6-80E4-81868D6F74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4240" y="215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Arial"/>
                <a:ea typeface="Arial"/>
              </a:rPr>
              <a:t>Promoting STEM in Gloucestershire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63040" y="5814720"/>
            <a:ext cx="3054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Tel:  +44 1452 427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ed.white@gloucestershire.gov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2394000" y="4249800"/>
            <a:ext cx="43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99"/>
                </a:solidFill>
                <a:latin typeface="Arial"/>
                <a:ea typeface="Arial"/>
              </a:rPr>
              <a:t>Ed White: STEM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6" descr="DSCN2259.JPG"/>
          <p:cNvPicPr/>
          <p:nvPr/>
        </p:nvPicPr>
        <p:blipFill>
          <a:blip r:embed="rId1"/>
          <a:stretch/>
        </p:blipFill>
        <p:spPr>
          <a:xfrm>
            <a:off x="392040" y="3675240"/>
            <a:ext cx="2001960" cy="15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3" name="Picture 4" descr="C:\Users\Simon\Pictures\ISSP Newent\021.JPG"/>
          <p:cNvPicPr/>
          <p:nvPr/>
        </p:nvPicPr>
        <p:blipFill>
          <a:blip r:embed="rId2"/>
          <a:stretch/>
        </p:blipFill>
        <p:spPr>
          <a:xfrm>
            <a:off x="6723000" y="4653000"/>
            <a:ext cx="2065320" cy="154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30120" y="2028960"/>
            <a:ext cx="8501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and Business Challenge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or Engineering focused project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mbassadors - talks, career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EST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or Dipl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DSCN2113.JPG"/>
          <p:cNvPicPr/>
          <p:nvPr/>
        </p:nvPicPr>
        <p:blipFill>
          <a:blip r:embed="rId1"/>
          <a:stretch/>
        </p:blipFill>
        <p:spPr>
          <a:xfrm>
            <a:off x="689040" y="3795840"/>
            <a:ext cx="21430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7" descr="DSC06394.JPG"/>
          <p:cNvPicPr/>
          <p:nvPr/>
        </p:nvPicPr>
        <p:blipFill>
          <a:blip r:embed="rId2"/>
          <a:stretch/>
        </p:blipFill>
        <p:spPr>
          <a:xfrm>
            <a:off x="6593040" y="2017800"/>
            <a:ext cx="2268360" cy="279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0" name="TextBox 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Secondary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2514600" y="2352600"/>
            <a:ext cx="474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d2db9"/>
                </a:solidFill>
                <a:latin typeface="Monotype Corsiva"/>
                <a:ea typeface="Arial"/>
              </a:rPr>
              <a:t>THANK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d2db9"/>
                </a:solidFill>
                <a:latin typeface="Monotype Corsiva"/>
                <a:ea typeface="Arial"/>
              </a:rPr>
              <a:t>Any 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2"/>
          <p:cNvSpPr/>
          <p:nvPr/>
        </p:nvSpPr>
        <p:spPr>
          <a:xfrm>
            <a:off x="642960" y="200016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is a national priority that will be exempted from any Government spending cuts required by the rec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tain's future is so dependent on science and technology that its budget will be ring-fe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ownturn is an opportunity to “rebalance” the British economy away from financial services in favour of high technology, which will be critical to jobs and prospe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4143240" y="785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The Nation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786120" y="500040"/>
            <a:ext cx="48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A selection of National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428760" y="1871640"/>
            <a:ext cx="8286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NET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 directories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temdirectories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 ambassador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Learning Centres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ciencelearningcentres.org.uk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ringing together of national STEM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and regional celebration even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nationalsciencecompetition.or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4071960" y="57168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The Gloucestershir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6577200" cy="40309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5"/>
          <p:cNvSpPr/>
          <p:nvPr/>
        </p:nvSpPr>
        <p:spPr>
          <a:xfrm>
            <a:off x="2611440" y="59324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99"/>
                </a:solidFill>
                <a:latin typeface="Californian FB"/>
              </a:rPr>
              <a:t>Profile showing aging work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571680" y="2143080"/>
            <a:ext cx="778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 create an educated and skilled workforce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meet the challenges of the future, particularly b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developing and increasing pupil's performance 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ience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chnology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ineering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able pupils in our schools to have opportunities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experience at first hand the fun, challenge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relevance of STEM subjects through active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Box 3"/>
          <p:cNvSpPr/>
          <p:nvPr/>
        </p:nvSpPr>
        <p:spPr>
          <a:xfrm>
            <a:off x="4286160" y="7858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Our</a:t>
            </a:r>
            <a:r>
              <a:rPr b="1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Aims</a:t>
            </a:r>
            <a:r>
              <a:rPr b="1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2"/>
          <p:cNvSpPr/>
          <p:nvPr/>
        </p:nvSpPr>
        <p:spPr>
          <a:xfrm>
            <a:off x="5500800" y="2143080"/>
            <a:ext cx="3214440" cy="4000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8c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285840" y="2143080"/>
            <a:ext cx="5214960" cy="40006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357120" y="2786040"/>
            <a:ext cx="535788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imon Kettle –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ined Secondary School Te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 Follis – Activities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ed Primary Teaching Assi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d White – Volunteer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0 yrs in business and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reg Cartw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ined Secondary School Teach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3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Who are w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1714680" y="214308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The Te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5715000" y="21430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5500800" y="2786040"/>
            <a:ext cx="350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s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T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EM   Ambassa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S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l additional fun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obtained through b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3"/>
          <p:cNvGrpSpPr/>
          <p:nvPr/>
        </p:nvGrpSpPr>
        <p:grpSpPr>
          <a:xfrm>
            <a:off x="3414600" y="3027240"/>
            <a:ext cx="2666880" cy="1389600"/>
            <a:chOff x="3414600" y="3027240"/>
            <a:chExt cx="2666880" cy="1389600"/>
          </a:xfrm>
        </p:grpSpPr>
        <p:pic>
          <p:nvPicPr>
            <p:cNvPr id="511" name="Picture 4" descr="stemworkslogo"/>
            <p:cNvPicPr/>
            <p:nvPr/>
          </p:nvPicPr>
          <p:blipFill>
            <a:blip r:embed="rId1"/>
            <a:stretch/>
          </p:blipFill>
          <p:spPr>
            <a:xfrm>
              <a:off x="3414600" y="3027240"/>
              <a:ext cx="2666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"/>
            <p:cNvSpPr/>
            <p:nvPr/>
          </p:nvSpPr>
          <p:spPr>
            <a:xfrm>
              <a:off x="3490920" y="40179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  <a:ea typeface="Arial"/>
                </a:rPr>
                <a:t>in Gloucestersh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Text Box 6"/>
          <p:cNvSpPr/>
          <p:nvPr/>
        </p:nvSpPr>
        <p:spPr>
          <a:xfrm>
            <a:off x="976320" y="21891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6157800" y="2036880"/>
            <a:ext cx="259092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dvice to schools on extra curricular STEM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366840" y="2036880"/>
            <a:ext cx="259056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cruit, train and manage Ambassadors from industry and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6157800" y="4094280"/>
            <a:ext cx="2590920" cy="13136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un workshops, competitions and activities in schools ages 7 -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366840" y="4094280"/>
            <a:ext cx="2590560" cy="13136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ceive requests from schools and link with business and offer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"/>
          <p:cNvSpPr/>
          <p:nvPr/>
        </p:nvSpPr>
        <p:spPr>
          <a:xfrm rot="20011800">
            <a:off x="5204880" y="26460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2"/>
          <p:cNvSpPr/>
          <p:nvPr/>
        </p:nvSpPr>
        <p:spPr>
          <a:xfrm flipV="1" rot="1588200">
            <a:off x="5204880" y="44748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 flipH="1" rot="1588200">
            <a:off x="3070800" y="26460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/>
          <p:cNvSpPr/>
          <p:nvPr/>
        </p:nvSpPr>
        <p:spPr>
          <a:xfrm flipH="1" flipV="1" rot="20011800">
            <a:off x="3070800" y="447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186000" y="5160960"/>
            <a:ext cx="27432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emit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To improve the uptake of STEM subjects in Gloucestersh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What STEMwork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285840" y="1928880"/>
            <a:ext cx="53578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0+ Volunteers from business acros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Gloucestersh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lks – engineers explaining how they use science and maths in their jobs. Cover health &amp; Safety and Standards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4" descr="C:\Documents and Settings\Simon\My Documents\My Pictures\Tweskesbury School\various projeects+jonny's 033.jpg"/>
          <p:cNvPicPr/>
          <p:nvPr/>
        </p:nvPicPr>
        <p:blipFill>
          <a:blip r:embed="rId1"/>
          <a:stretch/>
        </p:blipFill>
        <p:spPr>
          <a:xfrm>
            <a:off x="6667560" y="1708200"/>
            <a:ext cx="19112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6" name="Picture 5" descr="C:\Users\Simon\Desktop\Setpoint\ISSP Bournside\DSC08544.JPG"/>
          <p:cNvPicPr/>
          <p:nvPr/>
        </p:nvPicPr>
        <p:blipFill>
          <a:blip r:embed="rId2"/>
          <a:stretch/>
        </p:blipFill>
        <p:spPr>
          <a:xfrm>
            <a:off x="496800" y="4094280"/>
            <a:ext cx="181620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7" name="TextBox 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Ambassa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28"/>
          <p:cNvSpPr/>
          <p:nvPr/>
        </p:nvSpPr>
        <p:spPr>
          <a:xfrm>
            <a:off x="2676600" y="3792600"/>
            <a:ext cx="38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e.g Flying start – regular school visits explaining principles of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2676600" y="4881600"/>
            <a:ext cx="58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ts at debates, e.g. Energy – renewable / non-renewable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30"/>
          <p:cNvSpPr/>
          <p:nvPr/>
        </p:nvSpPr>
        <p:spPr>
          <a:xfrm>
            <a:off x="2676600" y="568800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reers Advi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317520" y="2158920"/>
            <a:ext cx="866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nex  and Primary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or D/T practical project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contr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S2 revision,  hire of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logging with staff or pup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acher In-service tr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0" descr="C:\Users\Simon\Pictures\Blakeney Robotics\DSC08635.JPG"/>
          <p:cNvPicPr/>
          <p:nvPr/>
        </p:nvPicPr>
        <p:blipFill>
          <a:blip r:embed="rId1"/>
          <a:stretch/>
        </p:blipFill>
        <p:spPr>
          <a:xfrm>
            <a:off x="544680" y="3514680"/>
            <a:ext cx="2054160" cy="27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Picture 7" descr="DSC06413.JPG"/>
          <p:cNvPicPr/>
          <p:nvPr/>
        </p:nvPicPr>
        <p:blipFill>
          <a:blip r:embed="rId2"/>
          <a:stretch/>
        </p:blipFill>
        <p:spPr>
          <a:xfrm>
            <a:off x="5956200" y="1576440"/>
            <a:ext cx="282888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52000"/>
              </a:srgbClr>
            </a:outerShdw>
          </a:effectLst>
        </p:spPr>
      </p:pic>
      <p:sp>
        <p:nvSpPr>
          <p:cNvPr id="535" name="TextBox 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Primary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35:38Z</dcterms:created>
  <dc:creator>Simon</dc:creator>
  <dc:description/>
  <dc:language>en-US</dc:language>
  <cp:lastModifiedBy> </cp:lastModifiedBy>
  <dcterms:modified xsi:type="dcterms:W3CDTF">2009-10-09T10:31:09Z</dcterms:modified>
  <cp:revision>57</cp:revision>
  <dc:subject/>
  <dc:title>PowerPoint Presentation</dc:title>
</cp:coreProperties>
</file>